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9B-06FA-47D7-A37B-E6734A82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6F4-8E74-4078-A603-5A4EE0A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734-2187-406E-98D5-814775A1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B66-3DD5-48EC-85D3-F0BE842B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0F6-C77C-41EB-B1C8-D515FA1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C43-93F9-48B3-9D8C-9E76724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BDF-0167-4207-9FFC-2F78ABDB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B6B-9307-4D30-B9CE-865C9A0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4C5-F133-4B55-9915-20415F3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522-76C9-4FAF-B2D2-E0CBABF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5CC-CB88-4228-9566-1AC52FD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C0E-A476-4921-9183-7D1165A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2863-C124-4176-A4BE-2AE563E8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0 Strážcovia stáda Božie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žcovia stáda Boži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te do sveta šír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tené ovce hľadaj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astierovi ich volaj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te všetkým znave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sť silu v žitia prame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stier im dá svoj pokoj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 ich chrániť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neste Božie poz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verne, odd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rista mnohí pozn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ím verne kráčaj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9:14:44Z</dcterms:modified>
  <cp:revision>20</cp:revision>
  <dc:subject/>
  <dc:title>Je veľký náš Pán, on slávy je Kráľ Nech do všetkých strán  spev vrúcnych znie chvál.</dc:title>
</cp:coreProperties>
</file>